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6B52-8F6F-4708-B96A-59C082DE1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AAB2-CE30-4CC5-AD57-8F13A216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EA1E-9646-465B-9CAB-39920C864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6572-822B-4E38-8DA6-D73FC5854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B1B7-554E-4107-B45F-01B19F65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99D9-2046-4164-BC36-0C204AC9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DE72-C7B2-437A-B856-642686BD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5FED-7907-4E90-B2CB-43CEB89E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2470-98A2-4BA0-AC1A-1E67619E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263A-446D-4720-8030-77D5E581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F567-8F53-4F6F-AD89-6BCCC643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64A2-5117-4CF0-BD31-79A3C21C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171B-AECE-4428-A1B3-C76DF1E8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DED9-1FBE-4408-A195-A1BF39F5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4440-4B9E-43A7-87C3-D12384E6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68D5-DA0C-4899-8330-C8FA5493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05F8-39C1-426C-BB47-6A742F9B9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DD71-7456-4F6A-B3E3-89DDC392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578E-0757-4F79-A24F-FACB5DB8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1F1E-6597-4222-95F5-2D5A537D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F0C0-CE94-475F-8360-7C5C2302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2C78-CBCB-4020-B114-72B6AE06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0960-EED3-4152-BCC8-FF5536A0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D81A-E359-44B8-AEB6-1EB4400E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EB00-4B21-4368-90FC-904498FCE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74DD-73F5-428E-8D6B-3A14F5C34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1142640"/>
            <a:ext cx="7721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The Causes of WW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590560" y="2742840"/>
            <a:ext cx="5181480" cy="28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lita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li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peri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ion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gnificant individu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3280" y="404640"/>
            <a:ext cx="4032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A. Finemess</a:t>
            </a:r>
            <a:br>
              <a:rPr sz="24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ww.SchoolHistory.co.u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The Crisis 1.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8 June 19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ir to Austrian throne Franz Ferdinand visits Saraje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pital of Bosnia, recently grabbed by Aust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tbed of Slav nation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59440" y="1752480"/>
            <a:ext cx="3017880" cy="2691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286680" y="4545000"/>
            <a:ext cx="1714320" cy="1703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013360" y="4951440"/>
            <a:ext cx="138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al of the Black Hand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The Crisis 2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lack Hand” terrorists attack the Arch Du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mb attempt fails in mo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avrilo Princip shoots Archduke and wife in the afterno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ustrians blame Serbia for supporting terror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781680" y="1752480"/>
            <a:ext cx="1752840" cy="2286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964200" y="4191120"/>
            <a:ext cx="1494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The Crisis 3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ustrians, supported by Germany, send Serbia a tough ultimat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bia agrees to all but two terms of the ultimat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ssia mobilises her troops to support Se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rmany demands that Russia stands her armies 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rmany declares war on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477120" y="3733920"/>
            <a:ext cx="1600200" cy="2286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248520" y="2209680"/>
            <a:ext cx="2133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emands must be put to Serbia that would be wholly impossible for them to accept …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Why did Britain get involved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4267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ritain had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ntent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ith France and Russ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ly “friendly agreements” but French and Russians given impression Britain would f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Schlieffen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83160" y="2971800"/>
            <a:ext cx="2192400" cy="2743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410080" y="1981080"/>
            <a:ext cx="2667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ir Edward Gr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British Foreign Secretary  … “There’s some devilry going on in Berlin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The Schlieffen Pla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3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rmany’s military plan to defeat France and Russ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nock out blow” aimed at France fir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void French defences by invasion of Belgi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rmans thought Britain would not interve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342900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Britain’s Reac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38102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838- UK had signed a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reaty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protect Belg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ritain also scared of Germany controlling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port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d not want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o defeat France an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minate Europ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 Britain nex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K issue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ltimatu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o Germany to withdraw troops from Belgium.  War declared August 4 19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226120" y="1676520"/>
            <a:ext cx="3308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Militarism 1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rmany was competing with the UK to build battleshi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British feared an attack on their Emp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67440" y="1981080"/>
            <a:ext cx="25430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Militarism 2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rmany was competing with Russia and France to expand their arm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88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9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.3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5.0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0.73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4.0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0.40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.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95880" y="167652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46640" y="3962520"/>
            <a:ext cx="24638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llian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3886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1914 all the major powers were linked by a system of alli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lliances made it more likely that a war would st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ce started, the alliances made it more likely to spr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24280" y="2119320"/>
            <a:ext cx="388944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Imperialis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the great powers were competing for colonies / terri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British feared Germany in Af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Austrians feared Serbia / Russia in the Balk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Nationalis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was an age when all nations wanted to assert their power and independ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Europe Slavs, aided by Serbia and Russia, wanted to be free of Austrian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173480" y="3886200"/>
            <a:ext cx="1693800" cy="2666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867280" y="4724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bia’s national fl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Significant Individuals 1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533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aiser Wilhelm I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ilt up German army and nav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ggressive foreign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termined to make Germany a top n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strusted by other po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611760" y="3092400"/>
            <a:ext cx="2075040" cy="2927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477120" y="17812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ermany must have its place in the su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he world belongs to the strong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Significant Individuals 2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unt Bercht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ustrian Prime Mini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uring the July Crisis, decided on a very tough ultimatum for Ser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11800" y="1752480"/>
            <a:ext cx="2400120" cy="3429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410080" y="5181480"/>
            <a:ext cx="274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Were the Serbs to agree to all the demands, this would not be to my liking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Significant Individuals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4724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thmann Hollw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rman Prime Min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ave very strong support to Austria during the July crisis while Kaiser was cruising on his yac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202440" y="1752480"/>
            <a:ext cx="2027160" cy="2660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172200" y="4565520"/>
            <a:ext cx="2514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he Austrian demands are moderate.  Any interference by Britain, France and Russia would be followed by incalculable consequenc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08:16:01Z</dcterms:created>
  <dc:creator>nshaw</dc:creator>
  <dc:description/>
  <dc:language>en-US</dc:language>
  <cp:lastModifiedBy>Nicole Leach</cp:lastModifiedBy>
  <dcterms:modified xsi:type="dcterms:W3CDTF">2009-02-10T10:03:24Z</dcterms:modified>
  <cp:revision>17</cp:revision>
  <dc:subject/>
  <dc:title>The Causes of WW1</dc:title>
</cp:coreProperties>
</file>